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923088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9228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8"/>
          </p:nvPr>
        </p:nvSpPr>
        <p:spPr>
          <a:xfrm>
            <a:off x="392112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3680" cy="34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9"/>
          </p:nvPr>
        </p:nvSpPr>
        <p:spPr>
          <a:xfrm>
            <a:off x="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40"/>
          </p:nvPr>
        </p:nvSpPr>
        <p:spPr>
          <a:xfrm>
            <a:off x="392112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A51C-EE21-43D8-A33F-C9DFED99A6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0B4D-FE4C-48B9-AFD7-C6F9F064ABE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2D17-AA08-4599-B4F2-C281990A491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1549-CC4E-4C8B-BE36-FD521119D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A9CC-257A-46F1-83E9-31AFA38A013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D67C2-3AE2-4827-8414-882137F5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65846-99B7-442F-8A8B-439BB968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FA763-4A0E-469E-868F-BAC42C0B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A42A5-1834-44B4-9FEA-C6D1921B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9AAE6-97FA-4F5C-AFB8-FED1DBBB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E4514-2830-4D72-8F21-F445D863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8E070-079C-48A7-B911-6B67B154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01147-88CC-4E8F-B491-03DB2641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01F53-7189-4CA8-BE46-E094BE26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175F1-C8B1-4AEE-AB5B-31606752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BD78-A3FC-4BD8-B142-DFE08929D7D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DB0DD-C1D8-4E33-8C23-8A9633EC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48834-0C3F-44A5-831E-39D25C4E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62209-5978-434D-A21A-EE0AEF30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D6A4C-3C75-40D3-B631-E3748440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5860D-96F0-4CCB-9E5F-D7C18CE9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B3F92-255A-4872-91B9-30C9546C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595DA-60CB-47B9-BC38-0AE94C0D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3C3E6-D24B-4F89-81E5-82EB2A29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6B1EF-C58C-43C7-B660-C304DFC7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3114E-12E1-4694-BED6-B4716D0D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B999-27EB-47F4-8EF9-721BA925F0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312A3-1A00-4D5A-BF66-4E231FAC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E33C21-A408-489D-8BFB-B51DF6C2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252457-8CB4-48CB-A44A-162D8231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BBC572-B908-42B3-9F4B-0844161E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96C484-F38D-4D46-AA93-D7FA3F09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CC8D74-B58D-4F72-B09F-DBC9D0E1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9EA6C4-DEFF-44F6-9051-1ED5CBBA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B36DCE-BCC9-41D0-BA9A-79EEA6DD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529260-48B8-49F1-833E-0435A8D7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9D1B2A-33B2-4810-BD28-6680EA68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EAE69-824A-487C-9C90-0C0CBF86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1EEE9B-A61C-45BF-A609-6CF6DF5C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330CED-3E84-4782-BB8C-04F02D93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37DC8A-B90C-452B-A3EF-FE1FC555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F9A71-388B-4FA8-B26F-2736F3F3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69117-E4B3-4C49-A2D4-D94AE065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8DFC7-4B8D-4F82-B689-97535DED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2A3D1-E293-4D9F-AD11-16E3EFDF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E73D4-8461-4207-A0B2-3F2FF46F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415A9-F249-4817-A1E5-E6AF1F49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0DFF9-9371-4985-B690-365AD9AD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3A5C3-9BB8-4DE7-8AE2-C781C7E0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31F7A-DF50-4D0A-96E7-E1DF6C4A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FF7BA-1849-49E5-91F3-885F1F7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F8D9D-6C9A-4277-857E-A3806BAB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870B6-41B8-4B1A-B4D2-1D31045D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9055D-595D-4712-9D3F-B0CEE14F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3EA661-ABEB-4A61-AE0F-15C25774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429214-C962-4A53-B6EF-09820E9B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AA1C70-BB0D-445F-883B-A5B620E2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C88D2B-BB21-4C5E-9774-23B45F18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816A96-167F-42B5-9C6B-83E1F449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03FB0-8CB0-46E1-8353-15C7AB65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6032C4-D9D3-4181-A74E-5E172B20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7BA5E9-4B4A-4F95-AF10-A15BDE43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DDD3E6-599F-4C47-AB5F-56102F58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48B55E-88E1-4D8B-89B5-75037D5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32E745-EE28-43E3-87FD-6D3F99A9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91D9B3-7FEA-4E10-B633-3B4E5637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3943BD-B8B2-405F-871F-14E77D17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C3ED4-3F1A-4A81-A288-34BFCFDA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C9781-3E99-4926-8B7E-EBA83973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EDFEC-AA03-4A18-8F7C-0D9A301B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3A380-A8F9-4B5C-B147-F4DF78D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1A74-CADE-4E77-8FBA-A722CCAA8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755A4-AFA9-4722-B1DF-7D63D75D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A9B37-05FF-4CFA-9034-33A3055B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99FF8-BAAA-4241-AA42-83532BA3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4C767-E5C0-4595-8470-E0227F4E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89ED7-2CAA-4EFB-9724-4F3F5DC3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C440C0-DEF9-4EBE-846A-DFC2E81D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2D599-570C-44F3-973E-BAF557B6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A2E05D-552E-41DA-8666-5D6DA803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CD6270-84BF-4FAE-81C3-CFCB331C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85FF47-76BA-456C-8254-DEF0EB81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C229-C473-445C-AC52-7C41195504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7D78E-452E-40E3-8FD4-DC354B1F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CC0A2-79B7-4B3D-A85F-DF661D2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B7F09-B07E-4FAD-BB78-1D5882D4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5F880-5601-4B27-982D-1B3930F5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218A5-CD62-44DC-BBFB-54BC6DEF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FB2A19-2E32-4201-923F-6355F404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F9FC3-0AA8-4068-8D0A-6795DEC1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E5D2C-0BA2-473D-A36B-F6A5D818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05FCB7-CA6F-4908-B074-A18F2C1F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8716D8-FF68-4A7C-8F1A-9DBD5CF0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CDFD-10D6-4A21-938E-5BDBEABCFD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E4CE8-C515-4872-858C-B24C10E6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5CCD7-8DD7-43B2-B72F-0398B23B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CCC88-DFA6-469F-93EF-BB8F3D53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5C38E-9178-4A5B-ACDF-9A56E34D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564FB-FC4F-471B-9E68-6E4E2DE6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FCFAE-E622-424E-ADA1-C84AC8E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CAF8E-69B2-4B43-A3FD-4365421F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1AA8C1-3EFC-485C-AF0A-5C5E1D44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2D8EA6-1812-475D-ABF3-81DDD40F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1E62B5-1EC0-4AD7-8890-6962C9DE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499B-B9C7-4404-BA1F-9EA4C132816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A7251F-F7A4-44D9-A213-0A8D5572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C12474-EE16-4D13-BF62-80DFEC08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7BA349-6705-4138-AE36-6B22B5CB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92F37C-23A3-4C36-BFD0-1E5CD700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3C04C6-6919-45D0-9131-1107765B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A73072-0BEB-4368-8535-C7D60160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49020D-4E06-4706-8D42-F2AF3B0C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98DD62-BDE2-4745-8BD4-1BDE9BA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EA0548-9343-4D7C-8A3C-43356A96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436B2C-0B3F-4B1C-8DE9-C65EC633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0007-FC44-4A98-9F27-56644C371AE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50560B-E08D-4D47-91E6-CDD641B0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A305B8-39DE-4847-855C-B1CA016E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AC7E7B-2F77-437F-992E-2A281800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46B807-0B40-488F-AD98-E1CCAADA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82701C-FE08-4D31-B8C8-B2D59B36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D1AA2C-E501-4AB0-869D-F9E2D5D6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34C5D7-3CE1-41A9-B29F-0CA6D616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3396A9-1582-447A-BF06-B2FE184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3E7C71-1E67-409E-B450-DCE7EBC6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457016-5330-48FE-9A44-35F0F31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7240-A0E6-4F62-A9D4-DCC4525B54A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4B2B2B-7923-42B9-8477-E42EDE8F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0485D9-A687-44D4-B64F-58504C35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D50AD5-4841-4387-90A9-5B6A079A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99B9D4-7903-4113-BAB1-6A212387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E4A4A4-9274-4883-8999-91A2CBBC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6D43AE-1CA8-4C1B-AD6C-EE0AAC50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AE8F02-2AA5-41AA-A841-97A89995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C6B1EE-B9D9-4AA0-B109-C924CF7F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ADD1E0-6D12-431B-8744-A610EC4B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4255D3-A834-46A5-9AC6-EE73A629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FEE4-C4E9-4D37-961E-8BC6E2E52B0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45E371-D85A-4B43-B2E0-24264A2F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7DA4A7-D575-43D6-B5D3-CB49C26B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634EAA-4810-4269-9C10-7F9FEC8D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A8B940-89E9-4934-B942-E5D91AA9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03F90E-7DFD-4CC8-ADBB-E47C5C9E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DFC4F6-2E39-4C7F-956A-C6A1C2A5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971CC3-1ABE-4352-B5CC-9F36C2F6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44FEAD-E9B9-4DBD-A66D-1FFE8007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48FE95-A9CD-4621-8A9B-659B8AEF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E8C466-219E-43A7-994A-DA7CCFCA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1C25-D117-4A4D-A596-CBEA4E7D8C3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90E4E2-3330-4D3F-B9CD-3C2357D8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1B61D5-5D56-446D-AD16-AEC57DA2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56FFD4-0928-4779-9186-80F10279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55D4A4-3EBE-4E95-AED4-FB22D28A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0AAF91-1B7C-46FA-ACA7-83CFC971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E8524B-4322-4B6D-8A1B-53D3E05F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A13CA8-AF37-41B0-8092-D2229D27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F3246-97E9-4B44-9145-E5C95D1A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B22D8-D0D2-4393-9E9F-CB89FA38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75AA9-0A2B-428F-B674-F88D2726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7A59-BCC4-4217-869C-666E52FBE34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7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7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ED6B-5F93-4F93-BAB9-4908B1EA845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2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2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pic>
        <p:nvPicPr>
          <p:cNvPr id="422" name="Imagem 7" descr="template_ppt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"/>
          <p:cNvPicPr/>
          <p:nvPr/>
        </p:nvPicPr>
        <p:blipFill>
          <a:blip r:embed="rId6"/>
          <a:stretch/>
        </p:blipFill>
        <p:spPr>
          <a:xfrm>
            <a:off x="404640" y="236520"/>
            <a:ext cx="2667240" cy="536760"/>
          </a:xfrm>
          <a:prstGeom prst="rect">
            <a:avLst/>
          </a:prstGeom>
          <a:ln w="0">
            <a:noFill/>
          </a:ln>
        </p:spPr>
      </p:pic>
      <p:pic>
        <p:nvPicPr>
          <p:cNvPr id="424" name="Imagem 9" descr="malha_construtiva.jpg"/>
          <p:cNvPicPr/>
          <p:nvPr/>
        </p:nvPicPr>
        <p:blipFill>
          <a:blip r:embed="rId7"/>
          <a:stretch/>
        </p:blipFill>
        <p:spPr>
          <a:xfrm>
            <a:off x="7000920" y="357120"/>
            <a:ext cx="1852560" cy="4636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5976-42D5-4763-A63A-7E3B7A54036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65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66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4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C301-BEE6-432B-89E6-071E85A1CB8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507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508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3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6A17-43D4-435A-93D1-BFED9246B33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C7B9-9733-45AF-BB04-5ECDA215F12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8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89E1-1D77-4380-A022-2235B94A217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0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68CD-9B5B-4BC1-9BD5-8A32C340889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6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873E-DB17-4087-9B8B-2FB6ABD9590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1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6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58F8-E4AA-4D5B-B41F-F6932F6F59A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5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2866-4337-48EA-A2AB-AC11EFD1DEF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9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9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2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06CE-2BC3-4842-A9A1-DFADBA16FDD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36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37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5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A942-47B4-463D-A2FE-E9A7D82B16E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etorica.labhackercd.net/dashboards/556c67d4986c856f65dba114" TargetMode="External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ainelsocial.labhackercd.net/panels/camara-dos-deputados" TargetMode="External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plicativos.gov.br/aplicativos/kosme/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play.google.com/store/apps/details?id=br.com.PartoHumanizado" TargetMode="External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tângulo 4"/>
          <p:cNvSpPr/>
          <p:nvPr/>
        </p:nvSpPr>
        <p:spPr>
          <a:xfrm>
            <a:off x="36360" y="270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Imagem 14" descr="Sem Título-1.png"/>
          <p:cNvPicPr/>
          <p:nvPr/>
        </p:nvPicPr>
        <p:blipFill>
          <a:blip r:embed="rId1"/>
          <a:stretch/>
        </p:blipFill>
        <p:spPr>
          <a:xfrm>
            <a:off x="1227240" y="808200"/>
            <a:ext cx="7559640" cy="52416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26880" y="2420640"/>
            <a:ext cx="75279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006699"/>
                </a:solidFill>
                <a:latin typeface="HelveticaNeue Condensed"/>
              </a:rPr>
              <a:t>Hackathon AN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CaixaDeTexto 1"/>
          <p:cNvSpPr/>
          <p:nvPr/>
        </p:nvSpPr>
        <p:spPr>
          <a:xfrm>
            <a:off x="3132000" y="5589720"/>
            <a:ext cx="410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eunião – 02/05/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odu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No que se refere à salvaguarda dos direitos de propriedade intelectual, todos os participantes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cedem exclusivamente à Agência Nacional de Saúde Suplementar o código-fonte e o direito de uso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os aplicativos desenvolvidos, de forma irrevogáv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participantes deverão apresentar à Comissão Organizadora um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Termo de Cessão de Direitos Autorais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 também um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Termo de Licença de Uso de Software/Aplicativ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, conforme modelos a serem disponibilizad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projetos desenvolvidos nesta maratona serão apreciados pela Comissão Avaliadora, que é soberana, e elegerá o(s) projeto(s) vencedor(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os proje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s projetos serão avaliados com base em três critéri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NTERESSE PÚBLIC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: será avaliado o quanto o projeto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contribuirá para o desenvolvimento do setor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e saúde suplement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RIATIVIDADE E INOVAÇÃ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: será avaliado o quanto o projeto contribuirá para experimentação de abordagens não convencionais para a solução de problema relevante, considerada a sua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distinção entre as soluções alternativas já existente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QUALIDADE TÉCNICA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erá avaliado o quanto o projeto atende aos seguintes parâmetros: a) usabilidade e acessibilidade; b) facilidade para ser compartilhado, copiado, alterado, remixado e executado por outras pessoas; c) estar devidamente documentado na intern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êm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1° colocado: R$ 10.0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° colocado: R$ 5.0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° colocado: R$ 2.5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ara o pagamento dos prêmios será aberto um chamamento público para que as instituições interessadas em financiar esse pagamento possam particip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gastos com a realização dos eventos presenciais será da ANS. Os participantes arcarão com despesas de transporte, hospedagem e alimentaçã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hamamento Públ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stituições que poderão participar: Organizações da Sociedade Civil, de acordo com a Lei  n° 13.019/2014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erão selecionadas até 3 instituições através de sorte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Temas inicialmente propo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1) utilização consciente do plano de saúde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) mobilidade dos dados clínicos do benefici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ROS PODERÃO SER DEFINIDOS PELA COMISSÃO ORGANIZAD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ronograma do Proje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539640" y="1268280"/>
          <a:ext cx="8064720" cy="4886280"/>
        </p:xfrm>
        <a:graphic>
          <a:graphicData uri="http://schemas.openxmlformats.org/drawingml/2006/table">
            <a:tbl>
              <a:tblPr/>
              <a:tblGrid>
                <a:gridCol w="260640"/>
                <a:gridCol w="3827160"/>
                <a:gridCol w="712800"/>
                <a:gridCol w="711360"/>
                <a:gridCol w="712800"/>
                <a:gridCol w="183996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</a:t>
                      </a:r>
                      <a:br>
                        <a:rPr sz="700"/>
                      </a:b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íc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Términ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clus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pela taref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1: Elaboração de Documen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a Nota Téc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Edital de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Termo de Cooper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Edital do Hackath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as minu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a, Pedro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s das minu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2: Encaminhamentos intern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com GGE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ertura do processo administrativo e encaminhamento para a 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ovação da 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ação da Comissão Organizadora (portaria no B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3 : Realização e divulgação do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a ficha de inscri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e chamamento público no DO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e chamamento público em jornal de grande circul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ções de divulgação do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da documentação de habilit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e resulta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de recur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 resultado dos recur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teio (se for o cas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natura do Termo de Cooper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ha Olivei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684360" y="1341360"/>
          <a:ext cx="7991280" cy="4608720"/>
        </p:xfrm>
        <a:graphic>
          <a:graphicData uri="http://schemas.openxmlformats.org/drawingml/2006/table">
            <a:tbl>
              <a:tblPr/>
              <a:tblGrid>
                <a:gridCol w="257040"/>
                <a:gridCol w="3794040"/>
                <a:gridCol w="704880"/>
                <a:gridCol w="706320"/>
                <a:gridCol w="704880"/>
                <a:gridCol w="1824120"/>
              </a:tblGrid>
              <a:tr h="257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</a:t>
                      </a:r>
                      <a:br>
                        <a:rPr sz="800"/>
                      </a:b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í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Térmi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clus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pela tare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4 : Organização e divulgação do Hackath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ação da Comissão Avaliadora (portaria no DO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, Mich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ssão com as entidades parceiras para definição dos te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ha, Michelle,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ção da infraestrutura dos eventos inicial e final junto à COE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,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ção das palestras que ocorrerão no evento inici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elle, Leonardo, Edu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ção dos dados a serem divulgados (além do que já está no sit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ardo, Mich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Termo de Cessão de Direitos Autorais e do Termo de Licença de Uso do Software/Aplicativ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Pedro, Adri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ovação dos Termos pela PRO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o Hackathon no D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ções de divulgação do Hackath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5 : Realização do Hackath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bimento e análise das incrições e documentos anex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e seleção das propos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s selecion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o de abertu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durante Desenvolvimento dos projetos pelos participa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ardo.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o final (apresentação dos protótip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produtos e seleção dos vence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Avali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s vence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ronograma do Proje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tórica Parlamentar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iste na análise e visualização em forma de bolhas dos principais temas presentes nos pronunciamentos dos deputados brasileiros durante o pequeno expediente. Dentro de cada bolha, que corresponde a um tema, é possível verificar quais os deputados o abordaram nos seus discursos. Clicando em um deputado, é possível visualizar mais informações sobre e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ainel Social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iste em um piloto para a visualização de informações legislativas e de redes sociais. O principal público alvo são os órgãos internos da Câmara dos Deputados, tais como Comissões e Lideranç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ítulo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OSME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portuniza a atividade da observação astronômica para ensinar e instigar sobre astronomia. Após observar o céu noturno, o usuário navega pelo mapa apontando o aparelho para os objetos astronômicos que observou para colecioná-los. Com um clique, ele pode adicionar anotações e fotos para documentar sua experiência. Em troca, recebe o sticker equivalente do astro, que pode ser colado dentro de sua respectiva coleção no álbum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Hackathon (Maratona Hacker) ANS: evento que reune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hacker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, programadores, desenvolvedores e inventores em geral, com o objetivo de promover o desenvolvimento de projetos que visem ao aumento da transparência na divulgação de informações públicas por meio de tecnologias digitai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arto Humanizado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raz informações sobre violência obstétrica, ajuda a criar um plano de parto e possui um mapa com indicação de doulas e grupos de apoio ao parto, amamentação e maternida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Espaço Reservado para Número de Slide 4"/>
          <p:cNvSpPr/>
          <p:nvPr/>
        </p:nvSpPr>
        <p:spPr>
          <a:xfrm>
            <a:off x="533520" y="651996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6C39-1CDF-4213-8D04-E1387DDE212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360" y="119700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pt-BR" sz="4000" spc="-1" strike="noStrike">
                <a:solidFill>
                  <a:srgbClr val="006699"/>
                </a:solidFill>
                <a:latin typeface="HelveticaNeue Condensed"/>
              </a:rPr>
              <a:t>OBRIGADO!</a:t>
            </a:r>
            <a:br>
              <a:rPr sz="3200"/>
            </a:br>
            <a:br>
              <a:rPr sz="2800"/>
            </a:br>
            <a:br>
              <a:rPr sz="2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sultado da Maratona: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Calibri"/>
              </a:rPr>
              <a:t>soluções mobi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 ANS estabelecerá as finalidades desejadas das ferramentas que serão propostas pelos participantes. Podem-se criar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Calibri"/>
              </a:rPr>
              <a:t>linhas/temas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diferentes a serem escolhidos pelos inscrito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ropostas de inscrição individual ou de equipes de, no máximo, 3 (três) component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ormulário de inscrição:  proposta sucinta de projeto de desenvolvimento de solução </a:t>
            </a:r>
            <a:r>
              <a:rPr b="0" i="1" lang="pt-BR" sz="2600" spc="-1" strike="noStrike">
                <a:solidFill>
                  <a:srgbClr val="000000"/>
                </a:solidFill>
                <a:latin typeface="Calibri"/>
              </a:rPr>
              <a:t>mobile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que utilize, preferencialmente, dados da A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otal de pessoas selecionadas: 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miss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68360" y="1244520"/>
          <a:ext cx="8229600" cy="4243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issão Avali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da por servidores e colaboradores do órgão, tanto das áreas relacionadas aos temas propostos, quanto das áreas de informação e T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da por profissionais reconhecidos nas áreas desejadas, além das áreas de transparência e desenvolvimento de aplicações web. É desejável que haja pelo menos 1 representante do órgão e 1 da W3C Brasil (entidade que defende os princípios da Internet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 o regul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ecia os projetos desenvolv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iona as pessoas para participarem d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 a infraestrutura d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 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 a área no Por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missão Organizad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ASTEG (2 integrante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GEP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GERP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ASSINF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ER/GCOM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ER/GPLA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GES/GGETI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GES/GGAPI/GEQ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F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PRO; 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O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as propos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ritérios a serem utilizados na avaliação das proposta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TERESSE PÚBLICO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erá avaliado se a propost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contribuirá para o desenvolvimento do setor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saúde suplement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RIATIVIDADE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erá avaliado se a proposta apresentará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solução inovador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para u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roblema relevant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Dados a serem utiliz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ara o desenvolvimento das soluções propostas, deverão ser utilizados, preferencialmente,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dados disponíveis no Portal ANS,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 forma articulada com outros dados, quando necessár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utras bases de dados que os participantes julgarem necessárias poderão ser utiliz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ormato do ev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averá um evento inicial (será transmitido via internet e a presença nele será facultativa) para apresentação dos temas, palestras 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monito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averá duas semanas para desenvolvimento (o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monitoring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correrá de forma virtual durante as duas semana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o último dia do evento, todos os projetos deverão ser apresentados na forma de protótipos. Cada apresentação terá duração máxima de 15 minu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Leonardo Fernandes Ferreira</cp:lastModifiedBy>
  <cp:lastPrinted>2015-08-17T20:27:35Z</cp:lastPrinted>
  <dcterms:modified xsi:type="dcterms:W3CDTF">2016-05-18T15:57:00Z</dcterms:modified>
  <cp:revision>427</cp:revision>
  <dc:subject/>
  <dc:title>Slide 1</dc:title>
</cp:coreProperties>
</file>